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9A1-A8B6-4082-A5AB-A7A6AA41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ECA-8758-416C-B198-0856A14F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A8E5B-E909-45F7-BA70-3205B831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19E7B-67E1-4FB4-A34D-E3A98330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71F38-C750-4025-B11B-BCCA8FB6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11B6A-2B38-42E3-A8E6-64D38DB3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0E4B3-0F34-4914-9EC3-7DA71DCA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6E66E-85B5-4241-9A98-7975A8C4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ABA56-E564-41E5-88AC-DED85F84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582A1-75D4-4399-9331-D3E77124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DEF53-439D-474F-BAA0-1CFA6CEC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BDF9C-9EF1-4513-A5A5-2C86A191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E50-3D6A-4248-96B3-AA75D277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E309E-EDAC-4D49-8031-B25BD43F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4F97B-4A77-4BBF-A67E-E9433695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4E481-5110-4F56-9BB2-AD32DA04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4EBB1-5FA2-4075-A734-03BFDBCF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5E56E-C116-48FB-941F-F1C47E56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AAA86-6B23-43C1-B1A8-145773E9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C7D49-12A3-41FE-AC8E-F6BCCDFD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9D987-7CB3-47D5-A7A7-CC705B3F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7B815-3A57-4450-9FEB-4EAC4C1C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6DAD5-4163-46DF-9C8C-4BBD7F22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C8C3-BF41-4B8F-9318-7F401483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8FCE6-6DF0-4D7C-9E5F-7F3C4BE4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2150E-72B6-4A8D-AA6F-DDDB57D9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6BDBB-3AB5-49D9-9729-6F1113D4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3DC9E-A8D1-4309-B024-E998A22C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302C0-943B-4550-A524-816AEFCC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EC1CF-004B-49A7-95D7-750DCB1B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F087C-A6E1-4319-867F-4E37A55D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FCE17-F2B0-423E-BC67-D7AA66E0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B2FA9-D7F8-4E79-81C4-269230AE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9828F-D11D-483C-A951-83A85768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1612-991D-4AD6-92D2-5A17A8E0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BB6D9-AF07-46AD-8EA2-C20CCE81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00945-9F59-43B9-A0C6-C452E232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2292C-1B12-4B2A-91FD-ECCE8457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2509-6320-4315-B1DD-C57E2FA7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EFDA-CA71-4B65-81B3-376F211A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9B6C-5E15-4460-ADA0-6A9D252B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EAFF-C0D2-4460-BE80-61BB1F7C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BA26-3C94-4F73-AB76-326B5C39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927F-B1D4-4A47-BDDE-684060E9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3E1-354D-413A-8821-4CAC1174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79E8-34EC-41EE-B3C3-D07F3A43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CBC9-6D27-4128-A142-3EC2A2A1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204D-CE4D-4AAE-BBCD-DE91790A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A6DF-5C8A-4106-B182-CB2B8841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A503-4796-4531-9292-6988EF93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455EA-CEEC-46D4-9ABB-7B3920F5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DD221-9D3D-48B2-B284-53F791A8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AA773-DC9C-4EB0-916B-EE23F11E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618B8-5F69-4A9E-A2D6-3F5F20BC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B599A-3D62-4E50-9B55-0651481D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A2A-1C08-4705-8186-FB318950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70230-B817-4B31-9CE2-0CB91A39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B5038-DBBC-4759-A9CF-15F669DF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F1010-C580-4866-944C-D117A908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8E99D-329D-4F41-902D-A09AB08E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35049-1126-4927-B839-C031DE23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8583E-BC78-455E-8AE1-DA04BA7A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BD411-0FF8-4361-9459-EA34BB2D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9B64D-51CA-4B20-869D-3FF4FFB1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88973-39C3-44FB-95A8-5115D64D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8BDD5-A1B7-42C1-AB31-ACAB1889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2EE1-0250-4C6E-B139-16C3C3CF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2321C-3713-4762-897E-10CB0F8D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A08C4-4BD7-4A4B-BC18-E30EF5C7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50742-B151-46BD-9A4B-9F9463E6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2E1FA-46CB-4489-9829-BED69AD4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EBC00-1D40-4B95-AD9F-C5BB1898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8E7F9-E255-4608-A3A5-ED0D4C45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E8EF7-004B-4A79-B6A9-3431B6CB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B8F71-BC33-48D2-8FFD-92ED803F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D3E0B-79E2-4BCB-B302-EFBF932C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7F514-A4DB-4131-97F6-3816DF3A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BB1-F712-48A2-97A2-C5E6FADC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5D7E4-8E0A-4A95-A6AC-617A625D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67C9F-B285-4C56-B30D-CAF8EEF8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A1241-1EE1-4A41-B57F-19987AE3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A5CE0-4BF9-40AB-A61C-5156E295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FA628-19E3-4D17-990D-CBD5752E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6823B-1D56-4C46-89A0-D670C7B9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982AF-DE18-4958-8BC4-5D1EDE24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52A78-E7DE-4F05-BF72-42718E7D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5775C-4669-496A-8BAE-D2E004B1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4A161-AC59-4CB6-AE5C-44C4F0E2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61D6-4F91-4ACD-8FF7-0A97BDC7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7E625-2757-429E-84E5-219EE7FD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8D2AB-CC20-4FD8-992E-9CE07FF4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22940-B623-4D1B-9A51-68AC61E8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C2181-40C4-44E7-83F0-A92E818A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42750-E879-4EC9-8D9D-116F3799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977F0-28FF-4492-87DB-633FF054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751C7-CCEB-46AD-892E-E3EA4F12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A0699-817A-4BDE-9038-DF141811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3BE2F-F7E9-4886-A72C-24E7D206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3A1E8-C107-417B-9CE5-1D8D520D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251F-2899-4146-B298-FA115455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1E5A3-472E-4408-924E-42A70AA1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0A45B-AFF0-4E43-950B-6AE619EF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34550-0AAB-4201-96AE-5072E686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91808-3855-4BCF-B9CC-6F9A6E7C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F0E2A-84EE-4B48-9630-D860B552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AFCAB-84E5-4035-B6DD-863CEAA6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F81AC-F4F4-42CE-8081-88A445BA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6A626-9605-4EB8-9DB0-BDB4E160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D44BF-2D72-414F-A2C1-18E5416A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15C97-89A1-4F70-9EFB-D5B21E90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75CC-5497-42F1-A19D-3F931B93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F0699-15AE-4DAA-B2DB-1A492FBC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834F2-93D8-4239-8413-9CAF29E1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A325E-393C-494B-B226-ABCC33CE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F83F7-4F31-42E7-956B-D7A97D93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A1F0E-9957-4EB1-90E6-A1E6FCA5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EBCA4-B267-4205-BB5E-EFC0BD21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EAA60-34B8-4FFE-BC46-97700D57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B5F28-CA5E-4ABE-93A5-A594375C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CCDF9-C0F6-4DFD-98A5-E9F35C59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E1CD6-9390-4CCB-BFCE-3A31C161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3768-CA50-4811-AFBE-CBBB132F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77D53-3BB5-46C9-BB3E-9247FBB6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FDBDD-CBD0-4749-A83E-3F0ADC19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F73C4-2B35-4DA9-A01C-9E4659C3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B9DE6-D9F4-4954-B635-45B44F2A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9CDF0-5A1A-4C04-8DF8-01107B27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085A4-2563-4A21-BA2C-D4FFA8A3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805AC-016C-4C33-8E6E-6BB5C0F0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97598-ACC1-413E-87F9-77C5CF7C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02569-E37B-4350-B9C6-70E5B84D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23189-ED05-43B6-979F-492A6A30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8F5E-2F9D-4C92-AB4C-C6CDF56E4B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85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87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0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91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2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ftr" idx="2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B9A5-1920-4359-8782-D329D9E300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81F7-926C-4465-BA21-4FBC74E270B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B6A5-6734-4481-972E-E29E1813EDF0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0B67-967D-48AC-B409-60C5FD7AB5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223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24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225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231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37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43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49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255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256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259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262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265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268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271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274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277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16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29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FCCD-5415-4514-A17E-9F283455225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9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9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3CFA-4934-4EDD-A12E-15E18EA157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4E22-E48F-40A2-8796-CDAA079C947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2011320" y="245160"/>
            <a:ext cx="6895800" cy="5452920"/>
            <a:chOff x="2011320" y="245160"/>
            <a:chExt cx="6895800" cy="5452920"/>
          </a:xfrm>
        </p:grpSpPr>
        <p:grpSp>
          <p:nvGrpSpPr>
            <p:cNvPr id="486" name="Group 3"/>
            <p:cNvGrpSpPr/>
            <p:nvPr/>
          </p:nvGrpSpPr>
          <p:grpSpPr>
            <a:xfrm>
              <a:off x="3493800" y="955440"/>
              <a:ext cx="943560" cy="709200"/>
              <a:chOff x="3493800" y="955440"/>
              <a:chExt cx="943560" cy="709200"/>
            </a:xfrm>
          </p:grpSpPr>
          <p:sp>
            <p:nvSpPr>
              <p:cNvPr id="487" name="Oval 4"/>
              <p:cNvSpPr/>
              <p:nvPr/>
            </p:nvSpPr>
            <p:spPr>
              <a:xfrm>
                <a:off x="3493800" y="955440"/>
                <a:ext cx="943560" cy="709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5"/>
              <p:cNvSpPr/>
              <p:nvPr/>
            </p:nvSpPr>
            <p:spPr>
              <a:xfrm>
                <a:off x="3832560" y="1266840"/>
                <a:ext cx="22968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6"/>
            <p:cNvGrpSpPr/>
            <p:nvPr/>
          </p:nvGrpSpPr>
          <p:grpSpPr>
            <a:xfrm>
              <a:off x="2011320" y="245160"/>
              <a:ext cx="6895800" cy="5452920"/>
              <a:chOff x="2011320" y="245160"/>
              <a:chExt cx="6895800" cy="5452920"/>
            </a:xfrm>
          </p:grpSpPr>
          <p:grpSp>
            <p:nvGrpSpPr>
              <p:cNvPr id="490" name="Group 7"/>
              <p:cNvGrpSpPr/>
              <p:nvPr/>
            </p:nvGrpSpPr>
            <p:grpSpPr>
              <a:xfrm>
                <a:off x="2011320" y="245160"/>
                <a:ext cx="6890760" cy="5452920"/>
                <a:chOff x="2011320" y="245160"/>
                <a:chExt cx="6890760" cy="5452920"/>
              </a:xfrm>
            </p:grpSpPr>
            <p:grpSp>
              <p:nvGrpSpPr>
                <p:cNvPr id="491" name="Group 8"/>
                <p:cNvGrpSpPr/>
                <p:nvPr/>
              </p:nvGrpSpPr>
              <p:grpSpPr>
                <a:xfrm>
                  <a:off x="3736800" y="1267920"/>
                  <a:ext cx="3598200" cy="2650320"/>
                  <a:chOff x="3736800" y="1267920"/>
                  <a:chExt cx="3598200" cy="2650320"/>
                </a:xfrm>
              </p:grpSpPr>
              <p:sp>
                <p:nvSpPr>
                  <p:cNvPr id="492" name="Oval 9"/>
                  <p:cNvSpPr/>
                  <p:nvPr/>
                </p:nvSpPr>
                <p:spPr>
                  <a:xfrm>
                    <a:off x="3736800" y="1267920"/>
                    <a:ext cx="3598200" cy="2650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Oval 10"/>
                  <p:cNvSpPr/>
                  <p:nvPr/>
                </p:nvSpPr>
                <p:spPr>
                  <a:xfrm>
                    <a:off x="5109120" y="2237760"/>
                    <a:ext cx="712800" cy="501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11"/>
                <p:cNvGrpSpPr/>
                <p:nvPr/>
              </p:nvGrpSpPr>
              <p:grpSpPr>
                <a:xfrm>
                  <a:off x="2011320" y="245160"/>
                  <a:ext cx="6890760" cy="5452920"/>
                  <a:chOff x="2011320" y="245160"/>
                  <a:chExt cx="6890760" cy="5452920"/>
                </a:xfrm>
              </p:grpSpPr>
              <p:grpSp>
                <p:nvGrpSpPr>
                  <p:cNvPr id="495" name="Group 12"/>
                  <p:cNvGrpSpPr/>
                  <p:nvPr/>
                </p:nvGrpSpPr>
                <p:grpSpPr>
                  <a:xfrm>
                    <a:off x="5761440" y="2322360"/>
                    <a:ext cx="2558880" cy="2743560"/>
                    <a:chOff x="5761440" y="2322360"/>
                    <a:chExt cx="2558880" cy="2743560"/>
                  </a:xfrm>
                </p:grpSpPr>
                <p:sp>
                  <p:nvSpPr>
                    <p:cNvPr id="496" name="Freeform 13"/>
                    <p:cNvSpPr/>
                    <p:nvPr/>
                  </p:nvSpPr>
                  <p:spPr>
                    <a:xfrm rot="2711400">
                      <a:off x="5583600" y="3020400"/>
                      <a:ext cx="21283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Freeform 14"/>
                    <p:cNvSpPr/>
                    <p:nvPr/>
                  </p:nvSpPr>
                  <p:spPr>
                    <a:xfrm rot="2711400">
                      <a:off x="7133040" y="4144680"/>
                      <a:ext cx="11408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Group 15"/>
                  <p:cNvGrpSpPr/>
                  <p:nvPr/>
                </p:nvGrpSpPr>
                <p:grpSpPr>
                  <a:xfrm>
                    <a:off x="5786640" y="2148120"/>
                    <a:ext cx="3041640" cy="2530080"/>
                    <a:chOff x="5786640" y="2148120"/>
                    <a:chExt cx="3041640" cy="2530080"/>
                  </a:xfrm>
                </p:grpSpPr>
                <p:sp>
                  <p:nvSpPr>
                    <p:cNvPr id="499" name="Freeform 16"/>
                    <p:cNvSpPr/>
                    <p:nvPr/>
                  </p:nvSpPr>
                  <p:spPr>
                    <a:xfrm rot="2103600">
                      <a:off x="5705640" y="2752560"/>
                      <a:ext cx="2239200" cy="42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Freeform 17"/>
                    <p:cNvSpPr/>
                    <p:nvPr/>
                  </p:nvSpPr>
                  <p:spPr>
                    <a:xfrm rot="2103600">
                      <a:off x="7543080" y="3722400"/>
                      <a:ext cx="120096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Group 18"/>
                  <p:cNvGrpSpPr/>
                  <p:nvPr/>
                </p:nvGrpSpPr>
                <p:grpSpPr>
                  <a:xfrm>
                    <a:off x="5776200" y="2063880"/>
                    <a:ext cx="3097440" cy="1992960"/>
                    <a:chOff x="5776200" y="2063880"/>
                    <a:chExt cx="3097440" cy="1992960"/>
                  </a:xfrm>
                </p:grpSpPr>
                <p:sp>
                  <p:nvSpPr>
                    <p:cNvPr id="502" name="Freeform 19"/>
                    <p:cNvSpPr/>
                    <p:nvPr/>
                  </p:nvSpPr>
                  <p:spPr>
                    <a:xfrm rot="1582800">
                      <a:off x="5747760" y="2520360"/>
                      <a:ext cx="21441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Freeform 20"/>
                    <p:cNvSpPr/>
                    <p:nvPr/>
                  </p:nvSpPr>
                  <p:spPr>
                    <a:xfrm rot="1582800">
                      <a:off x="7653600" y="324504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Group 21"/>
                  <p:cNvGrpSpPr/>
                  <p:nvPr/>
                </p:nvGrpSpPr>
                <p:grpSpPr>
                  <a:xfrm>
                    <a:off x="5768280" y="1971720"/>
                    <a:ext cx="3133800" cy="1607760"/>
                    <a:chOff x="5768280" y="1971720"/>
                    <a:chExt cx="3133800" cy="1607760"/>
                  </a:xfrm>
                </p:grpSpPr>
                <p:sp>
                  <p:nvSpPr>
                    <p:cNvPr id="505" name="Freeform 22"/>
                    <p:cNvSpPr/>
                    <p:nvPr/>
                  </p:nvSpPr>
                  <p:spPr>
                    <a:xfrm rot="1080000">
                      <a:off x="5781240" y="2281320"/>
                      <a:ext cx="207000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Freeform 23"/>
                    <p:cNvSpPr/>
                    <p:nvPr/>
                  </p:nvSpPr>
                  <p:spPr>
                    <a:xfrm rot="1080000">
                      <a:off x="7716600" y="2774160"/>
                      <a:ext cx="111204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Group 24"/>
                  <p:cNvGrpSpPr/>
                  <p:nvPr/>
                </p:nvGrpSpPr>
                <p:grpSpPr>
                  <a:xfrm>
                    <a:off x="5805000" y="1880280"/>
                    <a:ext cx="2941200" cy="999720"/>
                    <a:chOff x="5805000" y="1880280"/>
                    <a:chExt cx="2941200" cy="999720"/>
                  </a:xfrm>
                </p:grpSpPr>
                <p:sp>
                  <p:nvSpPr>
                    <p:cNvPr id="508" name="Freeform 25"/>
                    <p:cNvSpPr/>
                    <p:nvPr/>
                  </p:nvSpPr>
                  <p:spPr>
                    <a:xfrm rot="463200">
                      <a:off x="5821920" y="2006280"/>
                      <a:ext cx="19062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Freeform 26"/>
                    <p:cNvSpPr/>
                    <p:nvPr/>
                  </p:nvSpPr>
                  <p:spPr>
                    <a:xfrm rot="463200">
                      <a:off x="7686720" y="2212560"/>
                      <a:ext cx="1023480" cy="60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Group 27"/>
                  <p:cNvGrpSpPr/>
                  <p:nvPr/>
                </p:nvGrpSpPr>
                <p:grpSpPr>
                  <a:xfrm>
                    <a:off x="5851080" y="1815480"/>
                    <a:ext cx="2658960" cy="442800"/>
                    <a:chOff x="5851080" y="1815480"/>
                    <a:chExt cx="2658960" cy="442800"/>
                  </a:xfrm>
                </p:grpSpPr>
                <p:sp>
                  <p:nvSpPr>
                    <p:cNvPr id="511" name="Freeform 28"/>
                    <p:cNvSpPr/>
                    <p:nvPr/>
                  </p:nvSpPr>
                  <p:spPr>
                    <a:xfrm rot="21515400">
                      <a:off x="5853960" y="1851840"/>
                      <a:ext cx="1730880" cy="27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Freeform 29"/>
                    <p:cNvSpPr/>
                    <p:nvPr/>
                  </p:nvSpPr>
                  <p:spPr>
                    <a:xfrm rot="21515400">
                      <a:off x="7576560" y="1826640"/>
                      <a:ext cx="928080" cy="42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Group 30"/>
                  <p:cNvGrpSpPr/>
                  <p:nvPr/>
                </p:nvGrpSpPr>
                <p:grpSpPr>
                  <a:xfrm>
                    <a:off x="5788440" y="1306800"/>
                    <a:ext cx="2363760" cy="785520"/>
                    <a:chOff x="5788440" y="1306800"/>
                    <a:chExt cx="2363760" cy="785520"/>
                  </a:xfrm>
                </p:grpSpPr>
                <p:sp>
                  <p:nvSpPr>
                    <p:cNvPr id="514" name="Freeform 31"/>
                    <p:cNvSpPr/>
                    <p:nvPr/>
                  </p:nvSpPr>
                  <p:spPr>
                    <a:xfrm rot="20797200">
                      <a:off x="5798160" y="1655280"/>
                      <a:ext cx="15213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Freeform 32"/>
                    <p:cNvSpPr/>
                    <p:nvPr/>
                  </p:nvSpPr>
                  <p:spPr>
                    <a:xfrm rot="20797200">
                      <a:off x="7301160" y="1395000"/>
                      <a:ext cx="81396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Group 33"/>
                  <p:cNvGrpSpPr/>
                  <p:nvPr/>
                </p:nvGrpSpPr>
                <p:grpSpPr>
                  <a:xfrm>
                    <a:off x="2647080" y="2477520"/>
                    <a:ext cx="2552400" cy="2739960"/>
                    <a:chOff x="2647080" y="2477520"/>
                    <a:chExt cx="2552400" cy="2739960"/>
                  </a:xfrm>
                </p:grpSpPr>
                <p:sp>
                  <p:nvSpPr>
                    <p:cNvPr id="517" name="Freeform 34"/>
                    <p:cNvSpPr/>
                    <p:nvPr/>
                  </p:nvSpPr>
                  <p:spPr>
                    <a:xfrm flipH="1" rot="18888600">
                      <a:off x="3251880" y="3174480"/>
                      <a:ext cx="212508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Freeform 35"/>
                    <p:cNvSpPr/>
                    <p:nvPr/>
                  </p:nvSpPr>
                  <p:spPr>
                    <a:xfrm flipH="1" rot="18888600">
                      <a:off x="2692080" y="4299480"/>
                      <a:ext cx="1141200" cy="60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Group 36"/>
                  <p:cNvGrpSpPr/>
                  <p:nvPr/>
                </p:nvGrpSpPr>
                <p:grpSpPr>
                  <a:xfrm>
                    <a:off x="2084400" y="2369880"/>
                    <a:ext cx="3043080" cy="2527200"/>
                    <a:chOff x="2084400" y="2369880"/>
                    <a:chExt cx="3043080" cy="2527200"/>
                  </a:xfrm>
                </p:grpSpPr>
                <p:sp>
                  <p:nvSpPr>
                    <p:cNvPr id="520" name="Freeform 37"/>
                    <p:cNvSpPr/>
                    <p:nvPr/>
                  </p:nvSpPr>
                  <p:spPr>
                    <a:xfrm flipH="1" rot="19496400">
                      <a:off x="2973600" y="2972160"/>
                      <a:ext cx="223272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Freeform 38"/>
                    <p:cNvSpPr/>
                    <p:nvPr/>
                  </p:nvSpPr>
                  <p:spPr>
                    <a:xfrm flipH="1" rot="19496400">
                      <a:off x="2168280" y="3940200"/>
                      <a:ext cx="120096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Group 39"/>
                  <p:cNvGrpSpPr/>
                  <p:nvPr/>
                </p:nvGrpSpPr>
                <p:grpSpPr>
                  <a:xfrm>
                    <a:off x="2040840" y="2283480"/>
                    <a:ext cx="3097440" cy="1991880"/>
                    <a:chOff x="2040840" y="2283480"/>
                    <a:chExt cx="3097440" cy="1991880"/>
                  </a:xfrm>
                </p:grpSpPr>
                <p:sp>
                  <p:nvSpPr>
                    <p:cNvPr id="523" name="Freeform 40"/>
                    <p:cNvSpPr/>
                    <p:nvPr/>
                  </p:nvSpPr>
                  <p:spPr>
                    <a:xfrm flipH="1" rot="20017200">
                      <a:off x="3022920" y="2739960"/>
                      <a:ext cx="21434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Freeform 41"/>
                    <p:cNvSpPr/>
                    <p:nvPr/>
                  </p:nvSpPr>
                  <p:spPr>
                    <a:xfrm flipH="1" rot="20017200">
                      <a:off x="2111040" y="3464640"/>
                      <a:ext cx="1148760" cy="58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Group 42"/>
                  <p:cNvGrpSpPr/>
                  <p:nvPr/>
                </p:nvGrpSpPr>
                <p:grpSpPr>
                  <a:xfrm>
                    <a:off x="2011320" y="2192400"/>
                    <a:ext cx="3135240" cy="1606680"/>
                    <a:chOff x="2011320" y="2192400"/>
                    <a:chExt cx="3135240" cy="1606680"/>
                  </a:xfrm>
                </p:grpSpPr>
                <p:sp>
                  <p:nvSpPr>
                    <p:cNvPr id="526" name="Freeform 43"/>
                    <p:cNvSpPr/>
                    <p:nvPr/>
                  </p:nvSpPr>
                  <p:spPr>
                    <a:xfrm flipH="1" rot="20520000">
                      <a:off x="3062880" y="2502000"/>
                      <a:ext cx="20703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Freeform 44"/>
                    <p:cNvSpPr/>
                    <p:nvPr/>
                  </p:nvSpPr>
                  <p:spPr>
                    <a:xfrm flipH="1" rot="20520000">
                      <a:off x="2084400" y="2993760"/>
                      <a:ext cx="111168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Group 45"/>
                  <p:cNvGrpSpPr/>
                  <p:nvPr/>
                </p:nvGrpSpPr>
                <p:grpSpPr>
                  <a:xfrm>
                    <a:off x="2166840" y="2100240"/>
                    <a:ext cx="2940120" cy="999360"/>
                    <a:chOff x="2166840" y="2100240"/>
                    <a:chExt cx="2940120" cy="999360"/>
                  </a:xfrm>
                </p:grpSpPr>
                <p:sp>
                  <p:nvSpPr>
                    <p:cNvPr id="529" name="Freeform 46"/>
                    <p:cNvSpPr/>
                    <p:nvPr/>
                  </p:nvSpPr>
                  <p:spPr>
                    <a:xfrm flipH="1" rot="21136800">
                      <a:off x="3184560" y="2226240"/>
                      <a:ext cx="19047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Freeform 47"/>
                    <p:cNvSpPr/>
                    <p:nvPr/>
                  </p:nvSpPr>
                  <p:spPr>
                    <a:xfrm flipH="1" rot="21136800">
                      <a:off x="2202120" y="2432160"/>
                      <a:ext cx="1023120" cy="60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Group 48"/>
                  <p:cNvGrpSpPr/>
                  <p:nvPr/>
                </p:nvGrpSpPr>
                <p:grpSpPr>
                  <a:xfrm>
                    <a:off x="2402280" y="2033640"/>
                    <a:ext cx="2661120" cy="447480"/>
                    <a:chOff x="2402280" y="2033640"/>
                    <a:chExt cx="2661120" cy="447480"/>
                  </a:xfrm>
                </p:grpSpPr>
                <p:sp>
                  <p:nvSpPr>
                    <p:cNvPr id="532" name="Freeform 49"/>
                    <p:cNvSpPr/>
                    <p:nvPr/>
                  </p:nvSpPr>
                  <p:spPr>
                    <a:xfrm flipH="1" rot="84600">
                      <a:off x="3329640" y="2068920"/>
                      <a:ext cx="17301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Freeform 50"/>
                    <p:cNvSpPr/>
                    <p:nvPr/>
                  </p:nvSpPr>
                  <p:spPr>
                    <a:xfrm flipH="1" rot="84600">
                      <a:off x="2407320" y="2044800"/>
                      <a:ext cx="928080" cy="42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Group 51"/>
                  <p:cNvGrpSpPr/>
                  <p:nvPr/>
                </p:nvGrpSpPr>
                <p:grpSpPr>
                  <a:xfrm>
                    <a:off x="2759400" y="1523520"/>
                    <a:ext cx="2364120" cy="784440"/>
                    <a:chOff x="2759400" y="1523520"/>
                    <a:chExt cx="2364120" cy="784440"/>
                  </a:xfrm>
                </p:grpSpPr>
                <p:sp>
                  <p:nvSpPr>
                    <p:cNvPr id="535" name="Freeform 52"/>
                    <p:cNvSpPr/>
                    <p:nvPr/>
                  </p:nvSpPr>
                  <p:spPr>
                    <a:xfrm flipH="1" rot="802800">
                      <a:off x="3594600" y="1870560"/>
                      <a:ext cx="1518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Freeform 53"/>
                    <p:cNvSpPr/>
                    <p:nvPr/>
                  </p:nvSpPr>
                  <p:spPr>
                    <a:xfrm flipH="1" rot="802800">
                      <a:off x="2796120" y="1611720"/>
                      <a:ext cx="81360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Group 54"/>
                  <p:cNvGrpSpPr/>
                  <p:nvPr/>
                </p:nvGrpSpPr>
                <p:grpSpPr>
                  <a:xfrm>
                    <a:off x="2885400" y="1237680"/>
                    <a:ext cx="2327400" cy="1083240"/>
                    <a:chOff x="2885400" y="1237680"/>
                    <a:chExt cx="2327400" cy="1083240"/>
                  </a:xfrm>
                </p:grpSpPr>
                <p:sp>
                  <p:nvSpPr>
                    <p:cNvPr id="538" name="Freeform 55"/>
                    <p:cNvSpPr/>
                    <p:nvPr/>
                  </p:nvSpPr>
                  <p:spPr>
                    <a:xfrm flipH="1" rot="1278000">
                      <a:off x="3694680" y="1788480"/>
                      <a:ext cx="15217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Freeform 56"/>
                    <p:cNvSpPr/>
                    <p:nvPr/>
                  </p:nvSpPr>
                  <p:spPr>
                    <a:xfrm flipH="1" rot="1278000">
                      <a:off x="2932560" y="1372680"/>
                      <a:ext cx="82224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Group 57"/>
                  <p:cNvGrpSpPr/>
                  <p:nvPr/>
                </p:nvGrpSpPr>
                <p:grpSpPr>
                  <a:xfrm>
                    <a:off x="3161160" y="833760"/>
                    <a:ext cx="2169360" cy="1503720"/>
                    <a:chOff x="3161160" y="833760"/>
                    <a:chExt cx="2169360" cy="1503720"/>
                  </a:xfrm>
                </p:grpSpPr>
                <p:sp>
                  <p:nvSpPr>
                    <p:cNvPr id="541" name="Freeform 58"/>
                    <p:cNvSpPr/>
                    <p:nvPr/>
                  </p:nvSpPr>
                  <p:spPr>
                    <a:xfrm flipH="1" rot="2028600">
                      <a:off x="3864960" y="167184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Freeform 59"/>
                    <p:cNvSpPr/>
                    <p:nvPr/>
                  </p:nvSpPr>
                  <p:spPr>
                    <a:xfrm flipH="1" rot="2028600">
                      <a:off x="3207600" y="1024920"/>
                      <a:ext cx="81396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Group 60"/>
                  <p:cNvGrpSpPr/>
                  <p:nvPr/>
                </p:nvGrpSpPr>
                <p:grpSpPr>
                  <a:xfrm>
                    <a:off x="3434040" y="437400"/>
                    <a:ext cx="1988280" cy="1830240"/>
                    <a:chOff x="3434040" y="437400"/>
                    <a:chExt cx="1988280" cy="1830240"/>
                  </a:xfrm>
                </p:grpSpPr>
                <p:sp>
                  <p:nvSpPr>
                    <p:cNvPr id="544" name="Freeform 61"/>
                    <p:cNvSpPr/>
                    <p:nvPr/>
                  </p:nvSpPr>
                  <p:spPr>
                    <a:xfrm flipH="1" rot="2664600">
                      <a:off x="400716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Freeform 62"/>
                    <p:cNvSpPr/>
                    <p:nvPr/>
                  </p:nvSpPr>
                  <p:spPr>
                    <a:xfrm flipH="1" rot="2664600">
                      <a:off x="3461760" y="66744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Group 63"/>
                  <p:cNvGrpSpPr/>
                  <p:nvPr/>
                </p:nvGrpSpPr>
                <p:grpSpPr>
                  <a:xfrm>
                    <a:off x="4027320" y="337680"/>
                    <a:ext cx="1462320" cy="1885680"/>
                    <a:chOff x="4027320" y="337680"/>
                    <a:chExt cx="1462320" cy="1885680"/>
                  </a:xfrm>
                </p:grpSpPr>
                <p:sp>
                  <p:nvSpPr>
                    <p:cNvPr id="547" name="Freeform 64"/>
                    <p:cNvSpPr/>
                    <p:nvPr/>
                  </p:nvSpPr>
                  <p:spPr>
                    <a:xfrm flipH="1" rot="3474000">
                      <a:off x="4338360" y="1446840"/>
                      <a:ext cx="135684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Freeform 65"/>
                    <p:cNvSpPr/>
                    <p:nvPr/>
                  </p:nvSpPr>
                  <p:spPr>
                    <a:xfrm flipH="1" rot="3474000">
                      <a:off x="4032720" y="548640"/>
                      <a:ext cx="7282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9" name="Group 66"/>
                  <p:cNvGrpSpPr/>
                  <p:nvPr/>
                </p:nvGrpSpPr>
                <p:grpSpPr>
                  <a:xfrm>
                    <a:off x="4446720" y="245160"/>
                    <a:ext cx="1125360" cy="1948320"/>
                    <a:chOff x="4446720" y="245160"/>
                    <a:chExt cx="1125360" cy="1948320"/>
                  </a:xfrm>
                </p:grpSpPr>
                <p:sp>
                  <p:nvSpPr>
                    <p:cNvPr id="550" name="Freeform 67"/>
                    <p:cNvSpPr/>
                    <p:nvPr/>
                  </p:nvSpPr>
                  <p:spPr>
                    <a:xfrm flipH="1" rot="4126800">
                      <a:off x="4557240" y="1402920"/>
                      <a:ext cx="13082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Freeform 68"/>
                    <p:cNvSpPr/>
                    <p:nvPr/>
                  </p:nvSpPr>
                  <p:spPr>
                    <a:xfrm flipH="1" rot="4126800">
                      <a:off x="4416480" y="439920"/>
                      <a:ext cx="7030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" name="Group 69"/>
                  <p:cNvGrpSpPr/>
                  <p:nvPr/>
                </p:nvGrpSpPr>
                <p:grpSpPr>
                  <a:xfrm>
                    <a:off x="5661720" y="954360"/>
                    <a:ext cx="2313720" cy="1109160"/>
                    <a:chOff x="5661720" y="954360"/>
                    <a:chExt cx="2313720" cy="1109160"/>
                  </a:xfrm>
                </p:grpSpPr>
                <p:sp>
                  <p:nvSpPr>
                    <p:cNvPr id="553" name="Freeform 70"/>
                    <p:cNvSpPr/>
                    <p:nvPr/>
                  </p:nvSpPr>
                  <p:spPr>
                    <a:xfrm rot="20274000">
                      <a:off x="5655600" y="1522800"/>
                      <a:ext cx="151884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Freeform 71"/>
                    <p:cNvSpPr/>
                    <p:nvPr/>
                  </p:nvSpPr>
                  <p:spPr>
                    <a:xfrm rot="20274000">
                      <a:off x="7112520" y="1091880"/>
                      <a:ext cx="81360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Group 72"/>
                  <p:cNvGrpSpPr/>
                  <p:nvPr/>
                </p:nvGrpSpPr>
                <p:grpSpPr>
                  <a:xfrm>
                    <a:off x="5531040" y="627120"/>
                    <a:ext cx="2197440" cy="1449720"/>
                    <a:chOff x="5531040" y="627120"/>
                    <a:chExt cx="2197440" cy="1449720"/>
                  </a:xfrm>
                </p:grpSpPr>
                <p:sp>
                  <p:nvSpPr>
                    <p:cNvPr id="556" name="Freeform 73"/>
                    <p:cNvSpPr/>
                    <p:nvPr/>
                  </p:nvSpPr>
                  <p:spPr>
                    <a:xfrm rot="19678800">
                      <a:off x="5485320" y="142920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Freeform 74"/>
                    <p:cNvSpPr/>
                    <p:nvPr/>
                  </p:nvSpPr>
                  <p:spPr>
                    <a:xfrm rot="19678800">
                      <a:off x="6861960" y="81180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8" name="Freeform 75"/>
                  <p:cNvSpPr/>
                  <p:nvPr/>
                </p:nvSpPr>
                <p:spPr>
                  <a:xfrm flipH="1" rot="4578600">
                    <a:off x="4765680" y="1469520"/>
                    <a:ext cx="126720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Freeform 76"/>
                  <p:cNvSpPr/>
                  <p:nvPr/>
                </p:nvSpPr>
                <p:spPr>
                  <a:xfrm flipH="1" rot="4578600">
                    <a:off x="4792320" y="539640"/>
                    <a:ext cx="678960" cy="28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0" name="Group 77"/>
                  <p:cNvGrpSpPr/>
                  <p:nvPr/>
                </p:nvGrpSpPr>
                <p:grpSpPr>
                  <a:xfrm>
                    <a:off x="5358600" y="271800"/>
                    <a:ext cx="1191600" cy="1897200"/>
                    <a:chOff x="5358600" y="271800"/>
                    <a:chExt cx="1191600" cy="1897200"/>
                  </a:xfrm>
                </p:grpSpPr>
                <p:sp>
                  <p:nvSpPr>
                    <p:cNvPr id="561" name="Freeform 78"/>
                    <p:cNvSpPr/>
                    <p:nvPr/>
                  </p:nvSpPr>
                  <p:spPr>
                    <a:xfrm rot="17742000">
                      <a:off x="5090400" y="1416960"/>
                      <a:ext cx="13078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Freeform 79"/>
                    <p:cNvSpPr/>
                    <p:nvPr/>
                  </p:nvSpPr>
                  <p:spPr>
                    <a:xfrm rot="17742000">
                      <a:off x="5887440" y="487080"/>
                      <a:ext cx="70128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Group 80"/>
                  <p:cNvGrpSpPr/>
                  <p:nvPr/>
                </p:nvGrpSpPr>
                <p:grpSpPr>
                  <a:xfrm>
                    <a:off x="5352120" y="391320"/>
                    <a:ext cx="1888920" cy="1791000"/>
                    <a:chOff x="5352120" y="391320"/>
                    <a:chExt cx="1888920" cy="1791000"/>
                  </a:xfrm>
                </p:grpSpPr>
                <p:sp>
                  <p:nvSpPr>
                    <p:cNvPr id="564" name="Freeform 81"/>
                    <p:cNvSpPr/>
                    <p:nvPr/>
                  </p:nvSpPr>
                  <p:spPr>
                    <a:xfrm rot="18822600">
                      <a:off x="5252400" y="1387080"/>
                      <a:ext cx="14223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Freeform 82"/>
                    <p:cNvSpPr/>
                    <p:nvPr/>
                  </p:nvSpPr>
                  <p:spPr>
                    <a:xfrm rot="18822600">
                      <a:off x="6406200" y="587520"/>
                      <a:ext cx="765360" cy="51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Group 83"/>
                  <p:cNvGrpSpPr/>
                  <p:nvPr/>
                </p:nvGrpSpPr>
                <p:grpSpPr>
                  <a:xfrm>
                    <a:off x="5458320" y="296280"/>
                    <a:ext cx="425880" cy="1791360"/>
                    <a:chOff x="5458320" y="296280"/>
                    <a:chExt cx="425880" cy="1791360"/>
                  </a:xfrm>
                </p:grpSpPr>
                <p:sp>
                  <p:nvSpPr>
                    <p:cNvPr id="567" name="Freeform 84"/>
                    <p:cNvSpPr/>
                    <p:nvPr/>
                  </p:nvSpPr>
                  <p:spPr>
                    <a:xfrm rot="16696200">
                      <a:off x="5006880" y="144504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Freeform 85"/>
                    <p:cNvSpPr/>
                    <p:nvPr/>
                  </p:nvSpPr>
                  <p:spPr>
                    <a:xfrm rot="16696200">
                      <a:off x="5441040" y="5371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86"/>
                  <p:cNvGrpSpPr/>
                  <p:nvPr/>
                </p:nvGrpSpPr>
                <p:grpSpPr>
                  <a:xfrm>
                    <a:off x="3062520" y="2532240"/>
                    <a:ext cx="2195280" cy="3001320"/>
                    <a:chOff x="3062520" y="2532240"/>
                    <a:chExt cx="2195280" cy="3001320"/>
                  </a:xfrm>
                </p:grpSpPr>
                <p:sp>
                  <p:nvSpPr>
                    <p:cNvPr id="570" name="Freeform 87"/>
                    <p:cNvSpPr/>
                    <p:nvPr/>
                  </p:nvSpPr>
                  <p:spPr>
                    <a:xfrm flipH="1" rot="18336000">
                      <a:off x="3418200" y="3315240"/>
                      <a:ext cx="2125440" cy="38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Freeform 88"/>
                    <p:cNvSpPr/>
                    <p:nvPr/>
                  </p:nvSpPr>
                  <p:spPr>
                    <a:xfrm flipH="1" rot="18336000">
                      <a:off x="3070080" y="4590360"/>
                      <a:ext cx="11408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Group 89"/>
                  <p:cNvGrpSpPr/>
                  <p:nvPr/>
                </p:nvGrpSpPr>
                <p:grpSpPr>
                  <a:xfrm>
                    <a:off x="3790440" y="2652120"/>
                    <a:ext cx="1485360" cy="2998800"/>
                    <a:chOff x="3790440" y="2652120"/>
                    <a:chExt cx="1485360" cy="2998800"/>
                  </a:xfrm>
                </p:grpSpPr>
                <p:sp>
                  <p:nvSpPr>
                    <p:cNvPr id="573" name="Freeform 90"/>
                    <p:cNvSpPr/>
                    <p:nvPr/>
                  </p:nvSpPr>
                  <p:spPr>
                    <a:xfrm flipH="1" rot="17543400">
                      <a:off x="3738960" y="3441240"/>
                      <a:ext cx="196632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Freeform 91"/>
                    <p:cNvSpPr/>
                    <p:nvPr/>
                  </p:nvSpPr>
                  <p:spPr>
                    <a:xfrm flipH="1" rot="17543400">
                      <a:off x="3742920" y="4745160"/>
                      <a:ext cx="105516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Group 92"/>
                  <p:cNvGrpSpPr/>
                  <p:nvPr/>
                </p:nvGrpSpPr>
                <p:grpSpPr>
                  <a:xfrm>
                    <a:off x="4504320" y="2694240"/>
                    <a:ext cx="870120" cy="2928240"/>
                    <a:chOff x="4504320" y="2694240"/>
                    <a:chExt cx="870120" cy="2928240"/>
                  </a:xfrm>
                </p:grpSpPr>
                <p:sp>
                  <p:nvSpPr>
                    <p:cNvPr id="576" name="Freeform 93"/>
                    <p:cNvSpPr/>
                    <p:nvPr/>
                  </p:nvSpPr>
                  <p:spPr>
                    <a:xfrm flipH="1" rot="16870800">
                      <a:off x="4079160" y="3479400"/>
                      <a:ext cx="1885320" cy="34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Freeform 94"/>
                    <p:cNvSpPr/>
                    <p:nvPr/>
                  </p:nvSpPr>
                  <p:spPr>
                    <a:xfrm flipH="1" rot="16870800">
                      <a:off x="4361040" y="4802760"/>
                      <a:ext cx="1012320" cy="54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Group 95"/>
                  <p:cNvGrpSpPr/>
                  <p:nvPr/>
                </p:nvGrpSpPr>
                <p:grpSpPr>
                  <a:xfrm>
                    <a:off x="5674680" y="2485080"/>
                    <a:ext cx="2282760" cy="2950560"/>
                    <a:chOff x="5674680" y="2485080"/>
                    <a:chExt cx="2282760" cy="2950560"/>
                  </a:xfrm>
                </p:grpSpPr>
                <p:sp>
                  <p:nvSpPr>
                    <p:cNvPr id="579" name="Freeform 96"/>
                    <p:cNvSpPr/>
                    <p:nvPr/>
                  </p:nvSpPr>
                  <p:spPr>
                    <a:xfrm rot="3144000">
                      <a:off x="5411880" y="3252240"/>
                      <a:ext cx="212508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Freeform 97"/>
                    <p:cNvSpPr/>
                    <p:nvPr/>
                  </p:nvSpPr>
                  <p:spPr>
                    <a:xfrm rot="3144000">
                      <a:off x="6801840" y="4498200"/>
                      <a:ext cx="113760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Group 98"/>
                  <p:cNvGrpSpPr/>
                  <p:nvPr/>
                </p:nvGrpSpPr>
                <p:grpSpPr>
                  <a:xfrm>
                    <a:off x="5651640" y="2592000"/>
                    <a:ext cx="1755000" cy="3033000"/>
                    <a:chOff x="5651640" y="2592000"/>
                    <a:chExt cx="1755000" cy="3033000"/>
                  </a:xfrm>
                </p:grpSpPr>
                <p:sp>
                  <p:nvSpPr>
                    <p:cNvPr id="582" name="Freeform 99"/>
                    <p:cNvSpPr/>
                    <p:nvPr/>
                  </p:nvSpPr>
                  <p:spPr>
                    <a:xfrm rot="3745200">
                      <a:off x="5267880" y="3395160"/>
                      <a:ext cx="2035080" cy="36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Freeform 100"/>
                    <p:cNvSpPr/>
                    <p:nvPr/>
                  </p:nvSpPr>
                  <p:spPr>
                    <a:xfrm rot="3745200">
                      <a:off x="6351480" y="4718160"/>
                      <a:ext cx="109224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Group 101"/>
                  <p:cNvGrpSpPr/>
                  <p:nvPr/>
                </p:nvGrpSpPr>
                <p:grpSpPr>
                  <a:xfrm>
                    <a:off x="5576760" y="2712600"/>
                    <a:ext cx="1226880" cy="2985480"/>
                    <a:chOff x="5576760" y="2712600"/>
                    <a:chExt cx="1226880" cy="2985480"/>
                  </a:xfrm>
                </p:grpSpPr>
                <p:sp>
                  <p:nvSpPr>
                    <p:cNvPr id="585" name="Freeform 102"/>
                    <p:cNvSpPr/>
                    <p:nvPr/>
                  </p:nvSpPr>
                  <p:spPr>
                    <a:xfrm rot="4286400">
                      <a:off x="5047560" y="3543840"/>
                      <a:ext cx="1971360" cy="30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Freeform 103"/>
                    <p:cNvSpPr/>
                    <p:nvPr/>
                  </p:nvSpPr>
                  <p:spPr>
                    <a:xfrm rot="4286400">
                      <a:off x="5880600" y="4883040"/>
                      <a:ext cx="105912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Group 104"/>
                  <p:cNvGrpSpPr/>
                  <p:nvPr/>
                </p:nvGrpSpPr>
                <p:grpSpPr>
                  <a:xfrm>
                    <a:off x="5519880" y="2840760"/>
                    <a:ext cx="698760" cy="2778480"/>
                    <a:chOff x="5519880" y="2840760"/>
                    <a:chExt cx="698760" cy="2778480"/>
                  </a:xfrm>
                </p:grpSpPr>
                <p:sp>
                  <p:nvSpPr>
                    <p:cNvPr id="588" name="Freeform 105"/>
                    <p:cNvSpPr/>
                    <p:nvPr/>
                  </p:nvSpPr>
                  <p:spPr>
                    <a:xfrm rot="4898400">
                      <a:off x="4895280" y="3607560"/>
                      <a:ext cx="1813320" cy="30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Freeform 106"/>
                    <p:cNvSpPr/>
                    <p:nvPr/>
                  </p:nvSpPr>
                  <p:spPr>
                    <a:xfrm rot="4898400">
                      <a:off x="5425560" y="4864680"/>
                      <a:ext cx="972360" cy="47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Group 107"/>
                  <p:cNvGrpSpPr/>
                  <p:nvPr/>
                </p:nvGrpSpPr>
                <p:grpSpPr>
                  <a:xfrm>
                    <a:off x="4959720" y="2887200"/>
                    <a:ext cx="666720" cy="2718000"/>
                    <a:chOff x="4959720" y="2887200"/>
                    <a:chExt cx="666720" cy="2718000"/>
                  </a:xfrm>
                </p:grpSpPr>
                <p:sp>
                  <p:nvSpPr>
                    <p:cNvPr id="591" name="Freeform 108"/>
                    <p:cNvSpPr/>
                    <p:nvPr/>
                  </p:nvSpPr>
                  <p:spPr>
                    <a:xfrm rot="5755200">
                      <a:off x="4533120" y="3664800"/>
                      <a:ext cx="177300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Freeform 109"/>
                    <p:cNvSpPr/>
                    <p:nvPr/>
                  </p:nvSpPr>
                  <p:spPr>
                    <a:xfrm rot="5755200">
                      <a:off x="4713120" y="4930560"/>
                      <a:ext cx="95292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93" name="Group 110"/>
              <p:cNvGrpSpPr/>
              <p:nvPr/>
            </p:nvGrpSpPr>
            <p:grpSpPr>
              <a:xfrm>
                <a:off x="2175120" y="683640"/>
                <a:ext cx="6732000" cy="4521600"/>
                <a:chOff x="2175120" y="683640"/>
                <a:chExt cx="6732000" cy="4521600"/>
              </a:xfrm>
            </p:grpSpPr>
            <p:grpSp>
              <p:nvGrpSpPr>
                <p:cNvPr id="594" name="Group 111"/>
                <p:cNvGrpSpPr/>
                <p:nvPr/>
              </p:nvGrpSpPr>
              <p:grpSpPr>
                <a:xfrm>
                  <a:off x="2175120" y="683640"/>
                  <a:ext cx="6732000" cy="4521600"/>
                  <a:chOff x="2175120" y="683640"/>
                  <a:chExt cx="6732000" cy="4521600"/>
                </a:xfrm>
              </p:grpSpPr>
              <p:sp>
                <p:nvSpPr>
                  <p:cNvPr id="595" name="Arc 112"/>
                  <p:cNvSpPr/>
                  <p:nvPr/>
                </p:nvSpPr>
                <p:spPr>
                  <a:xfrm flipV="1">
                    <a:off x="5743080" y="859680"/>
                    <a:ext cx="3164040" cy="2522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Arc 113"/>
                  <p:cNvSpPr/>
                  <p:nvPr/>
                </p:nvSpPr>
                <p:spPr>
                  <a:xfrm flipH="1">
                    <a:off x="2562480" y="2271240"/>
                    <a:ext cx="2488320" cy="293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Arc 114"/>
                  <p:cNvSpPr/>
                  <p:nvPr/>
                </p:nvSpPr>
                <p:spPr>
                  <a:xfrm>
                    <a:off x="5820480" y="1753560"/>
                    <a:ext cx="175968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Arc 115"/>
                  <p:cNvSpPr/>
                  <p:nvPr/>
                </p:nvSpPr>
                <p:spPr>
                  <a:xfrm flipH="1">
                    <a:off x="2174760" y="1299960"/>
                    <a:ext cx="3130920" cy="293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Arc 116"/>
                  <p:cNvSpPr/>
                  <p:nvPr/>
                </p:nvSpPr>
                <p:spPr>
                  <a:xfrm flipH="1">
                    <a:off x="3058560" y="683640"/>
                    <a:ext cx="2282400" cy="2840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Arc 117"/>
                  <p:cNvSpPr/>
                  <p:nvPr/>
                </p:nvSpPr>
                <p:spPr>
                  <a:xfrm>
                    <a:off x="5492520" y="1878120"/>
                    <a:ext cx="939600" cy="2840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Freeform 118"/>
                  <p:cNvSpPr/>
                  <p:nvPr/>
                </p:nvSpPr>
                <p:spPr>
                  <a:xfrm flipH="1">
                    <a:off x="4301280" y="837360"/>
                    <a:ext cx="514080" cy="18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" name="Freeform 119"/>
                <p:cNvSpPr/>
                <p:nvPr/>
              </p:nvSpPr>
              <p:spPr>
                <a:xfrm rot="20253000">
                  <a:off x="6127200" y="2182680"/>
                  <a:ext cx="54720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3" name="Group 120"/>
            <p:cNvGrpSpPr/>
            <p:nvPr/>
          </p:nvGrpSpPr>
          <p:grpSpPr>
            <a:xfrm>
              <a:off x="2356920" y="733320"/>
              <a:ext cx="6397920" cy="4707720"/>
              <a:chOff x="2356920" y="733320"/>
              <a:chExt cx="6397920" cy="4707720"/>
            </a:xfrm>
          </p:grpSpPr>
          <p:sp>
            <p:nvSpPr>
              <p:cNvPr id="604" name="Freeform 121"/>
              <p:cNvSpPr/>
              <p:nvPr/>
            </p:nvSpPr>
            <p:spPr>
              <a:xfrm flipH="1">
                <a:off x="4478760" y="3255120"/>
                <a:ext cx="59688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Arc 122"/>
              <p:cNvSpPr/>
              <p:nvPr/>
            </p:nvSpPr>
            <p:spPr>
              <a:xfrm flipH="1">
                <a:off x="3394800" y="2599920"/>
                <a:ext cx="26118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Arc 123"/>
              <p:cNvSpPr/>
              <p:nvPr/>
            </p:nvSpPr>
            <p:spPr>
              <a:xfrm flipH="1">
                <a:off x="3656520" y="2142720"/>
                <a:ext cx="1530720" cy="293364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Arc 124"/>
              <p:cNvSpPr/>
              <p:nvPr/>
            </p:nvSpPr>
            <p:spPr>
              <a:xfrm flipH="1">
                <a:off x="2356920" y="1759320"/>
                <a:ext cx="29246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Arc 125"/>
              <p:cNvSpPr/>
              <p:nvPr/>
            </p:nvSpPr>
            <p:spPr>
              <a:xfrm>
                <a:off x="5594040" y="2171160"/>
                <a:ext cx="468720" cy="29336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Arc 126"/>
              <p:cNvSpPr/>
              <p:nvPr/>
            </p:nvSpPr>
            <p:spPr>
              <a:xfrm>
                <a:off x="5717160" y="2157480"/>
                <a:ext cx="1235520" cy="29336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127"/>
              <p:cNvSpPr/>
              <p:nvPr/>
            </p:nvSpPr>
            <p:spPr>
              <a:xfrm>
                <a:off x="6160320" y="3567240"/>
                <a:ext cx="59688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128"/>
              <p:cNvSpPr/>
              <p:nvPr/>
            </p:nvSpPr>
            <p:spPr>
              <a:xfrm flipV="1" rot="19660800">
                <a:off x="5233320" y="2967480"/>
                <a:ext cx="542880" cy="1033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129"/>
              <p:cNvSpPr/>
              <p:nvPr/>
            </p:nvSpPr>
            <p:spPr>
              <a:xfrm flipH="1">
                <a:off x="2700000" y="3404520"/>
                <a:ext cx="13356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130"/>
              <p:cNvSpPr/>
              <p:nvPr/>
            </p:nvSpPr>
            <p:spPr>
              <a:xfrm flipH="1">
                <a:off x="3328560" y="1418760"/>
                <a:ext cx="8564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31"/>
              <p:cNvSpPr/>
              <p:nvPr/>
            </p:nvSpPr>
            <p:spPr>
              <a:xfrm>
                <a:off x="7515360" y="3128040"/>
                <a:ext cx="1239480" cy="1972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132"/>
              <p:cNvSpPr/>
              <p:nvPr/>
            </p:nvSpPr>
            <p:spPr>
              <a:xfrm>
                <a:off x="6871680" y="2130120"/>
                <a:ext cx="1868400" cy="1315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133"/>
              <p:cNvSpPr/>
              <p:nvPr/>
            </p:nvSpPr>
            <p:spPr>
              <a:xfrm>
                <a:off x="6940800" y="73332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34"/>
              <p:cNvSpPr/>
              <p:nvPr/>
            </p:nvSpPr>
            <p:spPr>
              <a:xfrm flipH="1" rot="1347000">
                <a:off x="4193280" y="2174400"/>
                <a:ext cx="54180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D1A1-D1D7-45B8-AB78-551D6E004985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660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840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846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2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31FB-46FB-4AE5-B655-8DE6C3410C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0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1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2250-4698-4825-9354-FE1FF7A5E4D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Электробезопасность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357200" y="3885840"/>
            <a:ext cx="64152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еспубликанский институт последипломного образования инженерно –педагогических работников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храна труд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928440" y="1642680"/>
            <a:ext cx="7715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Система сохранения жизни и здоровья работников в процессе трудовой деятельности, включающая в себя правовые, социально-экономические, организационно технические, санитарно-гигиенические, лечебно-профилактические, реабилитационные и иные мероприятия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4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Электробезопасность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мплекс мероприятий в области охраны труда подразумевает такие направления деятельности, как создание безопасных условий пребывания обучающихся и персонала, соблюдение санитарно-гигиенического режима, мер противопожарной безопасности и электробезопасности, обучение безопасному поведению. Знанию норм и правил охраны труда, ведение обязательной документации, определяемой номенклатурой дел, и многое друго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блемы электробезопасност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статочная квалификация лиц ответственных за электрохозя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статочно работников, которые могут обслуживать электрооборудование и осветительную сеть в образовательном учреж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ства индивидуальной защиты не в достаточном количестве и не всегда испытываются в с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роводится медицинский осмотр работников. Выполняющих работы с повышенной опас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Правила безопасной электроустановок потребител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3.2. Специалисты службы охраны труда обязаны контролировать безопасную эксплуатацию электроустановок и должны иметь группу четыре по электробезопасност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3.3. Запрещается возлагать на энергослужбу обязанности, не входящие в ее профессиональную компетенцию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Вывод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роблемы электробезопасности имеют комплексный характер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-Создание этого направления охраны труда определено целями государственной политики в области охраны труда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400" cy="33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04:56:48Z</dcterms:created>
  <dc:creator>Василевский</dc:creator>
  <dc:description/>
  <dc:language>en-US</dc:language>
  <cp:lastModifiedBy>user</cp:lastModifiedBy>
  <dcterms:modified xsi:type="dcterms:W3CDTF">2016-12-19T07:07:17Z</dcterms:modified>
  <cp:revision>42</cp:revision>
  <dc:subject/>
  <dc:title>Опасности электрических систем</dc:title>
</cp:coreProperties>
</file>