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AB03-FB32-4F3F-AB30-F1FB7306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C20D-28EA-49D6-8F65-660C98AD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F0FE-ADB4-4EC8-B6E5-0799D4A2F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D787-52FC-448A-8A3F-3CC952B60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5D24-295E-4615-8D2B-42791432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058E-3DEF-427B-9178-4D771623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2D33-75A9-4A7B-BBAC-A6175E96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CF38-FD01-4FD9-AC1F-ACC4AEC0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7EA3-42C3-4EF8-B379-224F1502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B5C1-64D3-4D23-A1F0-347FDF21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5A3A-A642-478E-B81C-FE38E7E1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9803-A3F6-4953-B9FD-3DEE5AA8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E6FD-D3E5-47F3-A72E-8EA57F56AE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8800" y="457200"/>
            <a:ext cx="10964880" cy="40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Сущность, значение, компоненты организационной культуры образовательного учреждения профессионального образования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385880" y="4579920"/>
            <a:ext cx="7280280" cy="15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шкова Наталья Владимировн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. пед. наук, доцент, зав. кафедрой управления образованием и педагогики РИПО ИП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284400"/>
            <a:ext cx="105156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109520"/>
            <a:ext cx="1051560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ывод: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лияние организационной культуры на эффективность деятельности любой организации, в частности образовательной, во многом зависит от того, насколько ее содержание соответствует основным потребностям и интересам коллектива (в личностном и организационном развитии, материально-финансовом обеспечении, социальной защищенности и т.д.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25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25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25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267840"/>
            <a:ext cx="105156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379520"/>
            <a:ext cx="105156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цесс формирования организационной культуры образовательного учреждения также зависит от его специализации, личности руководителя, стиля руководства и управления коллективом, мотивации коллектива, индивидуальных особенностей каждого сотрудника, процедуры распространения информации и обмена ею, характера контактов между сотрудни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50760"/>
            <a:ext cx="105156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591840"/>
            <a:ext cx="11193480" cy="59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комендации по совершенствованию организационной культу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У СПО      состоят в следующем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1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Акцентировать внимание на использовании единого информационного пространства образовательного учреждения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1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оощрение творческой обстановки в коллективе и создание условий для развития инициативы сотрудников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1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Более полное делегирование полномочий от руководителя подразделения своим подчиненным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1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ревалирование демократического стиля руководства над авторитарным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1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Регулярное проведение совместных мероприятий, посвященных различным праздничным датам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1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Улучшение социально-психологического климата в коллективе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1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ериодическая диагностика существующей организационной культуры, а также удовлетворенности ею сотрудников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1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Разработка Кодекса корпоративной этики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1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Данные рекомендации позволят выстроить более эффективную систему управления, при которой все сотрудники будут четко и однозначно понимать цели и задачи, стоящие перед образовательным учреждением, и правила, согласно которым он действует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Эффективное управление организационной культурой позволяет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чительно повысить качество деятельности управленческой команд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ершенствовать формы взаимодействия руководства, педагогического коллектива, студентов и их родител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формировать оптимальные условия для творческого сотрудничества и развития субъектно-субъектных отношений участников образовательного процес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3" dur="125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215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7" dur="75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1" dur="75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23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5" dur="75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36800"/>
            <a:ext cx="105156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312560"/>
            <a:ext cx="1091412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рганизационная культур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то убеждения, нормы поведения, установки и ценности, которые являются теми неписаными правилами, определяющими как должны работать и вести себя люди в данной организ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то убеждения, ценности и представления, в большей или в меньшей степени разделяемые всеми членами педагогического коллектива и сотрудникам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404720"/>
            <a:ext cx="1086336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рпоративная культура образовательного учрежден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то инструмент, который дает возможность руководителю понять особенности своей организации, успешно развивать образовательное учреждение. Понятие «организационная культура» шире понятия «корпоративная культура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10515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поненты организационной культуры образовательного учреждения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42600" y="1379520"/>
            <a:ext cx="11210760" cy="52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1) символы («настенная живопись», вид досок объявлений, награды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2) герои организации («Доска почета»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3) ритуалы: Как люди здороваются? Как одеваются?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4) язык организации (фразы, словесные штампы наиболее употребляемые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5) разделяемые убеждения и взаимные ожидания (отношение к студентам, коллегам, к  инновациям и др.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6) философия (миссия), задающая смысл существования образовательной организации и ее отношение к сотрудникам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287280"/>
            <a:ext cx="105156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поненты организационной культуры образовательного учреждения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7) профессиональные ценности: Какого своего студента я (мы) считаю хорошим? Какого коллегу я считаю настоящим педагогом?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8) общечеловеческие ценности, мировоззрение (здоровье, семейная жизнь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9) нормы поведения (стандарты и подходы, по которым педагог определяет, что и как ему нужно делать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10) правила поведения, по которым ведется деятельность в организации (они могут быть формальными и не формальными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11) психологический климат педагогического коллекти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6560" y="68040"/>
            <a:ext cx="1051560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Функции организационной культуры: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8800" y="914040"/>
            <a:ext cx="1141416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хранная функ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стоит в создании барьера, ограждающего организацию от нежелательных внешних воздействий. Она реализуется через различные запреты, «табу», ограничивающие норм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Интегрирующая функ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формирует чувство принадлежности к организации, гордости за нее, стремление посторонних лиц включиться в нее. Это облегчает решение кадровых пробле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егулирующая функ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оддерживает необходимые правила и нормы поведения членов организации, их взаимоотношений, контактов с внешним миром, что является гарантией ее стабильности, уменьшает возможность нежелательных конфликт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1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Функции организационной культуры: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2320" y="1270080"/>
            <a:ext cx="1115064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даптивная функ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блегчает взаимное приспособление людей друг к другу и к организации. Она реализуется через общие нормы поведения, ритуалы, обряды, с помощью которых осуществляется также воспитание сотрудников. Участвуя в совместных мероприятиях, придерживаясь одинаковых способов поведения и т. п., люди легче находят контакты друг с друг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риентирующая функ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ультуры направляет деятельность организации и ее участников в необходимое русл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Функции организационной культуры: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1960" y="1270080"/>
            <a:ext cx="110746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отивационная функ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здает для этого необходимые стимул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я формирования имидж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рганизации, т. е. ее образа в глазах окружающих. Этот образ является результатом непроизвольного синтеза людьми отдельных элементов культуры организации в некое неуловимое целое, оказывающее, тем не менее, огромное воздействие, как на эмоциональное, так и на рациональное отношение к н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481040"/>
            <a:ext cx="1092204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ила организационной культуры определяется, по крайней мере, двумя важными факторам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тепенью принятия членами коллектива основных ценностей О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тепенью их преданности этим ценностя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0T08:41:11Z</dcterms:created>
  <dc:creator>Admin</dc:creator>
  <dc:description/>
  <dc:language>en-US</dc:language>
  <cp:lastModifiedBy>Admin</cp:lastModifiedBy>
  <dcterms:modified xsi:type="dcterms:W3CDTF">2017-11-21T07:22:16Z</dcterms:modified>
  <cp:revision>41</cp:revision>
  <dc:subject/>
  <dc:title>Презентация PowerPoint</dc:title>
</cp:coreProperties>
</file>